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gif" ContentType="image/gif"/>
  <Override PartName="/ppt/media/image16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517-2CB6-4814-8ECE-023F5F0A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2BE-8993-4463-90C7-FCA76DCE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2DCCE-9095-4186-B710-C146BA3C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12C51-7B24-4467-93B8-1E9B21A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A7432-DDF0-40C8-A8D6-516EAD6B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8C345-3512-49A0-8331-F7C5341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EFFEA-14AB-480F-B97E-02B49032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F094-4A08-428F-9265-5395CE06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6B42A-DBA7-4272-8A1C-D69CA447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2611B-EADB-405D-8171-AF86AE2E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AADD4-89EF-458E-8CA0-36680F3F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A16-A6B4-4D8A-882F-A3A6D870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732-F684-4CBA-88F2-DB79D014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6F11-95F0-4DF6-A925-65CC4121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506E-CD92-489E-A362-19AA157D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C2B4-F854-4759-BD10-281250CF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72D6-DB88-4556-8C32-F0B4F857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24D2-B031-4735-89AA-88933FE1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6F94-13EB-4E57-AA32-AAA2B77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9258-1D96-4B85-80C3-99F983A3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B25-D435-4EDB-B806-17619346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639B-F188-4ED6-8859-00F67100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BDD-021E-4AC0-B62D-139AE24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B770-943F-4B2E-B539-C891B414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3992-C251-4117-9CCC-A9C50416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E4BD-6915-4F35-BC74-16E0A3DB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4457-8FEF-4DEF-890E-10A150B6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DAC1-7F5C-4AC6-B7F9-EE4CCD77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9D50-DE1F-4CDC-908B-4FAAB20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F97C-EE19-42A9-96D8-849D6427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127C-DFA2-4A8D-8DE6-A0AB0FAD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DA9-66FE-4EB5-896F-3BEF3009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83BC-6BC7-4B6C-8F8D-269B063A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71B6-DD2D-4492-AED0-E6FEB60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6D3B-E6EF-4011-8DD6-52F85749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0D71-C685-4827-A85B-0AEAEBC9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5721-D9BA-47C6-973A-5950DF7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591D-DD0C-4CFB-8706-2BA97463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D43CA-EFB8-488E-BE5F-BB6977DF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98A26-B5DE-4A53-A2B0-3B594127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BED2A-669A-4762-9D66-FADC68FD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7511-BF71-4F8A-A351-8366F080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AA3-8051-417F-9650-9BECCAE6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EB87-2E81-49D0-8ECE-D1FD6DD1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213B-DABA-40C2-B2E3-E5FE9989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F7E85-8887-4FA7-A5AD-10D3C055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1F479-1872-4145-AEA8-8F2C7592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EDFC-C174-450A-A9E8-4589E64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E3F4-0ADC-4E23-9DAF-6FBF3F31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A758-98A9-4659-9AD5-89EB7C60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CAEE-9051-4E2F-BFAE-DEF5BD88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3B10-BC80-4F90-B864-D2D4BE3D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12273-E227-4378-8632-1CDB3942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ABD-A30A-46E2-B174-E7D66F13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E4661-1646-47A0-BEBE-08618BBC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55649-B57F-482C-A8DE-9A917EC3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883C9-C446-4239-8786-69D49504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6EE2A-CBF2-40EC-AEFC-6F5A7034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9F23F-F880-4124-9C45-7F7D9FA3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1742-585A-4E8E-98A4-CAA4AAB0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21E2E-1972-44B6-B28C-A0D253E8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ADB32-492C-43A1-81EA-4FB2EC7B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D2C4A-2231-4968-BD77-768DB957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6386-6D61-4E40-9725-B8C2A2AC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8BA-D2C2-4168-A72D-D29E8652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D24A-20FC-4E07-882F-02FAB9FA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9A385-C141-4336-AA85-47FA83FE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EB367-EEA4-4E57-8765-8545905A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4EC8-9EC6-4420-B1CC-B8062867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3B78-AE0C-44A1-8CDA-A85B04A8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55D17-6B74-4341-BD4C-6FF6B41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4593C-9692-45FD-9895-CEE8F3F0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82ED8-AC16-4372-9862-E972DDF1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E917-6CDB-47B9-AB00-F2230FDE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47372-38C2-4E36-B917-71A1BD23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C63-EED4-41F0-981B-4B74613D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4BCF5-88D2-4C9D-A935-D5D7FE89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98AA1-9351-4F74-84F6-B39EAEA5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37148-F57C-4257-8682-C9839EEC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629C-3BEA-40F3-AEAF-6CFEB8B1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D8D60-341A-45B0-9498-42D77600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DCA3A-B37B-4EA9-83D9-1A9B95C9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DD2B-8270-4A1B-AC50-D1AA59F2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4E79-1826-406E-AFBF-FA226115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8FEEB-A343-48A9-A467-31F0633C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D5973-EF8D-4095-9B70-CF73327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502-59F6-48B4-9A45-AA572DD4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BEA99-71B0-464D-96D3-62699BB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4335-A4A8-4651-8B07-548B6AE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DD494-C899-43DD-B3C5-7B0A11E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5E54E-8826-443B-826B-62B3547B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7708-2FDC-4E69-BB76-C5711DB8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E7E6F-64D1-4AC7-B3E5-FFE42771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C1410-EBD5-48CC-B6CF-D88C095A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70AC9-C7E5-42A2-A044-7AE60BBA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BEB8D-05A3-4242-A6C0-16F2836B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3D77E-4C3E-43BC-91D8-6BA7BDD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099-D722-40CB-BA79-156DAF3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4E258-EF5A-4BA5-B61D-6DB59B7D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7D816-1F1A-4163-9163-83BB56CC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2622F-BA19-4A45-8FD0-CA90BF6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CFDC0-A761-47DF-93C1-0EF3DB6F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B421D-0854-431A-80B7-CAABA6E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973BA-0561-42F6-8FFA-FFAABB96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34346-7142-4C96-AFEA-2EFBD0D8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EC8CE-3339-443E-A603-B68FD182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DD41E-862A-4A0B-80E2-694473EE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AC5C3-EF0E-4A0E-9C2D-CB2E740B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AD3-6536-47C8-BD3B-A860222F452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1AF1-1CE0-4899-AEC6-04CDBBAA97C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87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88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5BBE-C58E-43CA-905E-BFA7AE3644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9B76-29E2-4A4F-854A-FDBC6B51D77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1134-454A-4294-8059-53ED03BCCF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E058-4644-4FAB-8184-F550B212F7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DA49-F40E-4A8E-A574-CFA0914A3B8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77D6-CD8B-460C-9F52-A6F99AEB403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9999-7050-48CC-858D-3F6061A87D0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baike.baidu.com/view/118.htm" TargetMode="External"/><Relationship Id="rId3" Type="http://schemas.openxmlformats.org/officeDocument/2006/relationships/hyperlink" Target="http://baike.baidu.com/view/16730.htm" TargetMode="External"/><Relationship Id="rId4" Type="http://schemas.openxmlformats.org/officeDocument/2006/relationships/hyperlink" Target="http://baike.baidu.com/view/33856.htm" TargetMode="External"/><Relationship Id="rId5" Type="http://schemas.openxmlformats.org/officeDocument/2006/relationships/hyperlink" Target="http://baike.baidu.com/view/3657.htm" TargetMode="External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"/>
          <p:cNvGrpSpPr/>
          <p:nvPr/>
        </p:nvGrpSpPr>
        <p:grpSpPr>
          <a:xfrm>
            <a:off x="458640" y="1557360"/>
            <a:ext cx="7459560" cy="4726800"/>
            <a:chOff x="458640" y="1557360"/>
            <a:chExt cx="7459560" cy="4726800"/>
          </a:xfrm>
        </p:grpSpPr>
        <p:pic>
          <p:nvPicPr>
            <p:cNvPr id="380" name="Picture 5" descr="图片11"/>
            <p:cNvPicPr/>
            <p:nvPr/>
          </p:nvPicPr>
          <p:blipFill>
            <a:blip r:embed="rId1"/>
            <a:stretch/>
          </p:blipFill>
          <p:spPr>
            <a:xfrm>
              <a:off x="2370240" y="1557360"/>
              <a:ext cx="4596840" cy="47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6"/>
            <p:cNvSpPr/>
            <p:nvPr/>
          </p:nvSpPr>
          <p:spPr>
            <a:xfrm>
              <a:off x="458640" y="3120120"/>
              <a:ext cx="7459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9900ff"/>
                  </a:solidFill>
                  <a:latin typeface="华康娃娃体W5(P)"/>
                  <a:ea typeface="华康娃娃体W5(P)"/>
                </a:rPr>
                <a:t>利 率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380880" y="1752480"/>
            <a:ext cx="8763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明存入银行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00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元，存期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，年利率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68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求税后利息。（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时利息税率为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5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列式为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00×4.68%×2×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-5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    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1258920" y="458136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6"/>
          <p:cNvSpPr txBox="1"/>
          <p:nvPr/>
        </p:nvSpPr>
        <p:spPr>
          <a:xfrm>
            <a:off x="2843280" y="4428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判断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1600200"/>
            <a:ext cx="1016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小红把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4000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元存入银行，存期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年， 年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利率为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5.40%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，求税后利息（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当时利息税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%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列式为 ：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4000×5.40%×3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－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4000×5.40%×3×5%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</a:t>
            </a:r>
            <a:r>
              <a:rPr b="0" lang="zh-CN" sz="4000" spc="-1" strike="noStrike">
                <a:solidFill>
                  <a:srgbClr val="4e3b30"/>
                </a:solidFill>
                <a:latin typeface="Franklin Gothic Book"/>
              </a:rPr>
              <a:t>（        ）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7110360" y="4869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WordArt 5"/>
          <p:cNvSpPr txBox="1"/>
          <p:nvPr/>
        </p:nvSpPr>
        <p:spPr>
          <a:xfrm>
            <a:off x="2843280" y="4428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判断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3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1125360"/>
            <a:ext cx="87631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华把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8000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元存入银行，存期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，年利率为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25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求税后利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当时利息税率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列式为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8000×2.52% ×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-5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（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1763640" y="414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6"/>
          <p:cNvSpPr txBox="1"/>
          <p:nvPr/>
        </p:nvSpPr>
        <p:spPr>
          <a:xfrm>
            <a:off x="2843280" y="4428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判断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8028000" y="3500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541440" y="1197000"/>
            <a:ext cx="81849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李叔叔按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年期整存整取年利率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5.40%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存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银行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6000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元，存了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年，到期后他能取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多少利息？</a:t>
            </a:r>
            <a:r>
              <a:rPr b="0" lang="zh-CN" sz="2800" spc="-1" strike="noStrike">
                <a:solidFill>
                  <a:srgbClr val="0e0e14"/>
                </a:solidFill>
                <a:latin typeface="Times New Roman"/>
                <a:ea typeface="宋体"/>
              </a:rPr>
              <a:t>（当时利息税率为</a:t>
            </a:r>
            <a:r>
              <a:rPr b="0" lang="en-US" sz="2800" spc="-1" strike="noStrike">
                <a:solidFill>
                  <a:srgbClr val="0e0e14"/>
                </a:solidFill>
                <a:latin typeface="Times New Roman"/>
              </a:rPr>
              <a:t>5%</a:t>
            </a:r>
            <a:r>
              <a:rPr b="0" lang="zh-CN" sz="2800" spc="-1" strike="noStrike">
                <a:solidFill>
                  <a:srgbClr val="0e0e14"/>
                </a:solidFill>
                <a:latin typeface="Times New Roman"/>
                <a:ea typeface="宋体"/>
              </a:rPr>
              <a:t>）</a:t>
            </a:r>
            <a:r>
              <a:rPr b="0" lang="en-US" sz="3200" spc="-1" strike="noStrike">
                <a:solidFill>
                  <a:srgbClr val="0e0e14"/>
                </a:solidFill>
                <a:latin typeface="Times New Roman"/>
              </a:rPr>
              <a:t>(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e14"/>
                </a:solidFill>
                <a:latin typeface="宋体"/>
              </a:rPr>
              <a:t>A.6000×5.4%×5</a:t>
            </a: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     B.6000×5.4%×6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C.6000×5.4%×5× (1</a:t>
            </a:r>
            <a:r>
              <a:rPr b="0" lang="zh-CN" sz="4000" spc="-1" strike="noStrike">
                <a:solidFill>
                  <a:srgbClr val="0e0e14"/>
                </a:solidFill>
                <a:latin typeface="Times New Roman"/>
                <a:ea typeface="宋体"/>
              </a:rPr>
              <a:t>－</a:t>
            </a: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5%</a:t>
            </a:r>
            <a:r>
              <a:rPr b="0" lang="zh-CN" sz="4000" spc="-1" strike="noStrike">
                <a:solidFill>
                  <a:srgbClr val="0e0e14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D.6000×5.4%×6× (1</a:t>
            </a:r>
            <a:r>
              <a:rPr b="0" lang="zh-CN" sz="4000" spc="-1" strike="noStrike">
                <a:solidFill>
                  <a:srgbClr val="0e0e14"/>
                </a:solidFill>
                <a:latin typeface="Times New Roman"/>
                <a:ea typeface="宋体"/>
              </a:rPr>
              <a:t>－</a:t>
            </a: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5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588000" y="2133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3132000" y="44280"/>
            <a:ext cx="20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选择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3" name="AutoShape 6"/>
          <p:cNvSpPr/>
          <p:nvPr/>
        </p:nvSpPr>
        <p:spPr>
          <a:xfrm flipV="1">
            <a:off x="7488360" y="1989000"/>
            <a:ext cx="1655640" cy="1152720"/>
          </a:xfrm>
          <a:prstGeom prst="wedgeEllipseCallout">
            <a:avLst>
              <a:gd name="adj1" fmla="val -42333"/>
              <a:gd name="adj2" fmla="val -89259"/>
            </a:avLst>
          </a:prstGeom>
          <a:solidFill>
            <a:srgbClr val="ff0000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 flipV="1">
            <a:off x="6516720" y="4004640"/>
            <a:ext cx="2881440" cy="865080"/>
          </a:xfrm>
          <a:prstGeom prst="wedgeEllipseCallout">
            <a:avLst>
              <a:gd name="adj1" fmla="val -60578"/>
              <a:gd name="adj2" fmla="val -753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税后利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j0078711"/>
          <p:cNvPicPr/>
          <p:nvPr/>
        </p:nvPicPr>
        <p:blipFill>
          <a:blip r:embed="rId1"/>
          <a:stretch/>
        </p:blipFill>
        <p:spPr>
          <a:xfrm>
            <a:off x="8015400" y="4343400"/>
            <a:ext cx="900000" cy="2181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80880" y="1197000"/>
            <a:ext cx="843912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李强于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买国债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00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元，存期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，年利率为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89%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求到期利息。 </a:t>
            </a:r>
            <a:r>
              <a:rPr b="0" lang="zh-CN" sz="2400" spc="-1" strike="noStrike">
                <a:solidFill>
                  <a:srgbClr val="0e0e14"/>
                </a:solidFill>
                <a:latin typeface="Arial"/>
                <a:ea typeface="宋体"/>
              </a:rPr>
              <a:t>（当时利息税率为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5%</a:t>
            </a:r>
            <a:r>
              <a:rPr b="0" lang="zh-CN" sz="2400" spc="-1" strike="noStrike">
                <a:solidFill>
                  <a:srgbClr val="0e0e14"/>
                </a:solidFill>
                <a:latin typeface="Arial"/>
                <a:ea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列式为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A.1800×4.89% ×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B.1800×4.89% × 3 ×(1-5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796000" y="21337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7"/>
          <p:cNvSpPr txBox="1"/>
          <p:nvPr/>
        </p:nvSpPr>
        <p:spPr>
          <a:xfrm>
            <a:off x="3132000" y="44280"/>
            <a:ext cx="20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选择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0" name="AutoShape 8"/>
          <p:cNvSpPr/>
          <p:nvPr/>
        </p:nvSpPr>
        <p:spPr>
          <a:xfrm flipV="1">
            <a:off x="6516720" y="2996640"/>
            <a:ext cx="2881440" cy="865080"/>
          </a:xfrm>
          <a:prstGeom prst="wedgeEllipseCallout">
            <a:avLst>
              <a:gd name="adj1" fmla="val -45375"/>
              <a:gd name="adj2" fmla="val -101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税后利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WordArt 4"/>
          <p:cNvSpPr txBox="1"/>
          <p:nvPr/>
        </p:nvSpPr>
        <p:spPr>
          <a:xfrm>
            <a:off x="2916360" y="189000"/>
            <a:ext cx="2485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2" name="Picture 5" descr="妈妈"/>
          <p:cNvPicPr/>
          <p:nvPr/>
        </p:nvPicPr>
        <p:blipFill>
          <a:blip r:embed="rId1"/>
          <a:stretch/>
        </p:blipFill>
        <p:spPr>
          <a:xfrm>
            <a:off x="5535720" y="3186000"/>
            <a:ext cx="1908000" cy="2671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妈妈1"/>
          <p:cNvPicPr/>
          <p:nvPr/>
        </p:nvPicPr>
        <p:blipFill>
          <a:blip r:embed="rId2"/>
          <a:stretch/>
        </p:blipFill>
        <p:spPr>
          <a:xfrm>
            <a:off x="4370400" y="3067200"/>
            <a:ext cx="1974960" cy="279072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7"/>
          <p:cNvSpPr/>
          <p:nvPr/>
        </p:nvSpPr>
        <p:spPr>
          <a:xfrm>
            <a:off x="2233080" y="1033560"/>
            <a:ext cx="55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国人民银行公布的存款利率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8"/>
          <p:cNvGrpSpPr/>
          <p:nvPr/>
        </p:nvGrpSpPr>
        <p:grpSpPr>
          <a:xfrm>
            <a:off x="179280" y="906480"/>
            <a:ext cx="946080" cy="764280"/>
            <a:chOff x="179280" y="906480"/>
            <a:chExt cx="946080" cy="764280"/>
          </a:xfrm>
        </p:grpSpPr>
        <p:pic>
          <p:nvPicPr>
            <p:cNvPr id="456" name="Picture 9" descr="cw4"/>
            <p:cNvPicPr/>
            <p:nvPr/>
          </p:nvPicPr>
          <p:blipFill>
            <a:blip r:embed="rId3"/>
            <a:stretch/>
          </p:blipFill>
          <p:spPr>
            <a:xfrm>
              <a:off x="179280" y="946080"/>
              <a:ext cx="94608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0"/>
            <p:cNvSpPr/>
            <p:nvPr/>
          </p:nvSpPr>
          <p:spPr>
            <a:xfrm>
              <a:off x="461520" y="9064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8" name=""/>
          <p:cNvGraphicFramePr/>
          <p:nvPr/>
        </p:nvGraphicFramePr>
        <p:xfrm>
          <a:off x="223920" y="1941480"/>
          <a:ext cx="2879640" cy="4013280"/>
        </p:xfrm>
        <a:graphic>
          <a:graphicData uri="http://schemas.openxmlformats.org/drawingml/2006/table">
            <a:tbl>
              <a:tblPr/>
              <a:tblGrid>
                <a:gridCol w="1263600"/>
                <a:gridCol w="1616040"/>
              </a:tblGrid>
              <a:tr h="627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存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利率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个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半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4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4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5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AutoShape 35"/>
          <p:cNvSpPr/>
          <p:nvPr/>
        </p:nvSpPr>
        <p:spPr>
          <a:xfrm>
            <a:off x="6389640" y="1861920"/>
            <a:ext cx="2700360" cy="1049040"/>
          </a:xfrm>
          <a:prstGeom prst="wedgeRoundRectCallout">
            <a:avLst>
              <a:gd name="adj1" fmla="val -41486"/>
              <a:gd name="adj2" fmla="val 109962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我存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元，两年后我可以取回多少钱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6"/>
          <p:cNvSpPr/>
          <p:nvPr/>
        </p:nvSpPr>
        <p:spPr>
          <a:xfrm>
            <a:off x="3284640" y="2279160"/>
            <a:ext cx="2700360" cy="575280"/>
          </a:xfrm>
          <a:prstGeom prst="wedgeRoundRectCallout">
            <a:avLst>
              <a:gd name="adj1" fmla="val 38000"/>
              <a:gd name="adj2" fmla="val 155564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除了本金，还有一些利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0"/>
          <p:cNvSpPr/>
          <p:nvPr/>
        </p:nvSpPr>
        <p:spPr>
          <a:xfrm>
            <a:off x="2260080" y="277920"/>
            <a:ext cx="55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国人民银行公布的存款利率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41"/>
          <p:cNvGrpSpPr/>
          <p:nvPr/>
        </p:nvGrpSpPr>
        <p:grpSpPr>
          <a:xfrm>
            <a:off x="179280" y="115920"/>
            <a:ext cx="946080" cy="764280"/>
            <a:chOff x="179280" y="115920"/>
            <a:chExt cx="946080" cy="764280"/>
          </a:xfrm>
        </p:grpSpPr>
        <p:pic>
          <p:nvPicPr>
            <p:cNvPr id="463" name="Picture 42" descr="cw4"/>
            <p:cNvPicPr/>
            <p:nvPr/>
          </p:nvPicPr>
          <p:blipFill>
            <a:blip r:embed="rId1"/>
            <a:stretch/>
          </p:blipFill>
          <p:spPr>
            <a:xfrm>
              <a:off x="179280" y="155520"/>
              <a:ext cx="94608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43"/>
            <p:cNvSpPr/>
            <p:nvPr/>
          </p:nvSpPr>
          <p:spPr>
            <a:xfrm>
              <a:off x="461520" y="1159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ctangle 44"/>
          <p:cNvSpPr/>
          <p:nvPr/>
        </p:nvSpPr>
        <p:spPr>
          <a:xfrm>
            <a:off x="1766880" y="6046920"/>
            <a:ext cx="5181480" cy="838080"/>
          </a:xfrm>
          <a:prstGeom prst="rect">
            <a:avLst/>
          </a:prstGeom>
          <a:solidFill>
            <a:srgbClr val="f0a22e"/>
          </a:solidFill>
          <a:ln w="1260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利息</a:t>
            </a: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本金</a:t>
            </a: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利率</a:t>
            </a: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50920" y="1403280"/>
          <a:ext cx="2879640" cy="4013280"/>
        </p:xfrm>
        <a:graphic>
          <a:graphicData uri="http://schemas.openxmlformats.org/drawingml/2006/table">
            <a:tbl>
              <a:tblPr/>
              <a:tblGrid>
                <a:gridCol w="1263600"/>
                <a:gridCol w="1616040"/>
              </a:tblGrid>
              <a:tr h="627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存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利率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个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半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4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4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5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7" name="Picture 68" descr="cw6"/>
          <p:cNvPicPr/>
          <p:nvPr/>
        </p:nvPicPr>
        <p:blipFill>
          <a:blip r:embed="rId2"/>
          <a:stretch/>
        </p:blipFill>
        <p:spPr>
          <a:xfrm>
            <a:off x="7413480" y="2352600"/>
            <a:ext cx="1730520" cy="193824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69"/>
          <p:cNvSpPr/>
          <p:nvPr/>
        </p:nvSpPr>
        <p:spPr>
          <a:xfrm>
            <a:off x="4481640" y="1242720"/>
            <a:ext cx="2700360" cy="1207080"/>
          </a:xfrm>
          <a:prstGeom prst="wedgeRoundRectCallout">
            <a:avLst>
              <a:gd name="adj1" fmla="val 53050"/>
              <a:gd name="adj2" fmla="val 103277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楷体_GB2312"/>
              </a:rPr>
              <a:t>你知道利息与哪些因素有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70"/>
          <p:cNvSpPr/>
          <p:nvPr/>
        </p:nvSpPr>
        <p:spPr>
          <a:xfrm>
            <a:off x="3311640" y="3934800"/>
            <a:ext cx="4329000" cy="561600"/>
          </a:xfrm>
          <a:prstGeom prst="wedgeRoundRectCallout">
            <a:avLst>
              <a:gd name="adj1" fmla="val 51018"/>
              <a:gd name="adj2" fmla="val 174212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楷体_GB2312"/>
              </a:rPr>
              <a:t>国家规定，存款的利息要按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楷体_GB2312"/>
              </a:rPr>
              <a:t>5%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楷体_GB2312"/>
              </a:rPr>
              <a:t>的税率纳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1" descr="图片12"/>
          <p:cNvPicPr/>
          <p:nvPr/>
        </p:nvPicPr>
        <p:blipFill>
          <a:blip r:embed="rId3"/>
          <a:stretch/>
        </p:blipFill>
        <p:spPr>
          <a:xfrm>
            <a:off x="7877160" y="4808520"/>
            <a:ext cx="969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0"/>
          <p:cNvSpPr/>
          <p:nvPr/>
        </p:nvSpPr>
        <p:spPr>
          <a:xfrm>
            <a:off x="-108000" y="2349360"/>
            <a:ext cx="4594320" cy="2900520"/>
          </a:xfrm>
          <a:prstGeom prst="rect">
            <a:avLst/>
          </a:prstGeom>
          <a:solidFill>
            <a:srgbClr val="ff00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7" descr="cw25"/>
          <p:cNvPicPr/>
          <p:nvPr/>
        </p:nvPicPr>
        <p:blipFill>
          <a:blip r:embed="rId1"/>
          <a:stretch/>
        </p:blipFill>
        <p:spPr>
          <a:xfrm>
            <a:off x="7677000" y="34920"/>
            <a:ext cx="1405080" cy="1844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cw11"/>
          <p:cNvPicPr/>
          <p:nvPr/>
        </p:nvPicPr>
        <p:blipFill>
          <a:blip r:embed="rId2"/>
          <a:stretch/>
        </p:blipFill>
        <p:spPr>
          <a:xfrm>
            <a:off x="162000" y="393840"/>
            <a:ext cx="1825560" cy="180180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9"/>
          <p:cNvSpPr/>
          <p:nvPr/>
        </p:nvSpPr>
        <p:spPr>
          <a:xfrm>
            <a:off x="2006640" y="275040"/>
            <a:ext cx="3038400" cy="921240"/>
          </a:xfrm>
          <a:prstGeom prst="wedgeRoundRectCallout">
            <a:avLst>
              <a:gd name="adj1" fmla="val -73347"/>
              <a:gd name="adj2" fmla="val 47500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本金是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1000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利率是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4.68%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5246640" y="541800"/>
            <a:ext cx="2259000" cy="460800"/>
          </a:xfrm>
          <a:prstGeom prst="wedgeRoundRectCallout">
            <a:avLst>
              <a:gd name="adj1" fmla="val 74935"/>
              <a:gd name="adj2" fmla="val -7064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还要扣去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5%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的利息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1693800" y="1795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我这样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550080" y="263196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0×4.68%×2=93.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477000" y="321300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3.6×5%=4.6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245880" y="3726000"/>
            <a:ext cx="2749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3.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=1088.9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4549680" y="2349360"/>
            <a:ext cx="4594320" cy="2900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6366240" y="1776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我的算法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5050440" y="26128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0×4.68%×2=93.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4761000" y="3213000"/>
            <a:ext cx="3144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3.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=1088.9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2189520" y="5373720"/>
            <a:ext cx="44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答：两年后老奶奶可以取回</a:t>
            </a:r>
            <a:r>
              <a:rPr b="1" lang="en-US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1088.92</a:t>
            </a:r>
            <a:r>
              <a:rPr b="1" lang="zh-CN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4"/>
          <p:cNvGrpSpPr/>
          <p:nvPr/>
        </p:nvGrpSpPr>
        <p:grpSpPr>
          <a:xfrm>
            <a:off x="2050920" y="0"/>
            <a:ext cx="5687640" cy="3093840"/>
            <a:chOff x="2050920" y="0"/>
            <a:chExt cx="5687640" cy="3093840"/>
          </a:xfrm>
        </p:grpSpPr>
        <p:sp>
          <p:nvSpPr>
            <p:cNvPr id="486" name="AutoShape 5"/>
            <p:cNvSpPr/>
            <p:nvPr/>
          </p:nvSpPr>
          <p:spPr>
            <a:xfrm>
              <a:off x="2050920" y="0"/>
              <a:ext cx="5539320" cy="3093840"/>
            </a:xfrm>
            <a:prstGeom prst="cloudCallout">
              <a:avLst>
                <a:gd name="adj1" fmla="val 72074"/>
                <a:gd name="adj2" fmla="val -26486"/>
              </a:avLst>
            </a:prstGeom>
            <a:solidFill>
              <a:srgbClr val="f0a22e">
                <a:alpha val="81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6"/>
            <p:cNvSpPr/>
            <p:nvPr/>
          </p:nvSpPr>
          <p:spPr>
            <a:xfrm>
              <a:off x="2574000" y="515160"/>
              <a:ext cx="5164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把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元存入银行，存期３年。我可得税后利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税收按利息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收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7"/>
          <p:cNvSpPr/>
          <p:nvPr/>
        </p:nvSpPr>
        <p:spPr>
          <a:xfrm>
            <a:off x="5580000" y="2708280"/>
            <a:ext cx="316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00"/>
            </a:solidFill>
            <a:miter/>
          </a:ln>
          <a:effectLst>
            <a:outerShdw dist="107932" dir="189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银行三年期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利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4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0" y="3429000"/>
            <a:ext cx="518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1000×3×2.43%=72.9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-324000" y="4221000"/>
            <a:ext cx="5181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72.9×20%=14.58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0"/>
          <p:cNvSpPr/>
          <p:nvPr/>
        </p:nvSpPr>
        <p:spPr>
          <a:xfrm rot="1198800">
            <a:off x="4571640" y="4076640"/>
            <a:ext cx="2016000" cy="482760"/>
          </a:xfrm>
          <a:prstGeom prst="leftArrow">
            <a:avLst>
              <a:gd name="adj1" fmla="val 50000"/>
              <a:gd name="adj2" fmla="val 104361"/>
            </a:avLst>
          </a:prstGeom>
          <a:solidFill>
            <a:srgbClr val="a564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6588000" y="429264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644e"/>
                </a:solidFill>
                <a:latin typeface="Arial"/>
                <a:ea typeface="宋体"/>
              </a:rPr>
              <a:t>利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 rot="1198800">
            <a:off x="2987280" y="5013360"/>
            <a:ext cx="2016000" cy="482400"/>
          </a:xfrm>
          <a:prstGeom prst="leftArrow">
            <a:avLst>
              <a:gd name="adj1" fmla="val 50000"/>
              <a:gd name="adj2" fmla="val 104439"/>
            </a:avLst>
          </a:prstGeom>
          <a:solidFill>
            <a:srgbClr val="800080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4788000" y="540396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Arial"/>
                <a:ea typeface="宋体"/>
              </a:rPr>
              <a:t>税后利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79280" y="5805360"/>
            <a:ext cx="42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我可得税后利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5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5"/>
          <p:cNvSpPr/>
          <p:nvPr/>
        </p:nvSpPr>
        <p:spPr>
          <a:xfrm>
            <a:off x="0" y="0"/>
            <a:ext cx="3672000" cy="2330280"/>
          </a:xfrm>
          <a:prstGeom prst="irregularSeal2">
            <a:avLst/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到期后我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取回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179280" y="522936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00+14.58=1014.5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2041920" y="914400"/>
            <a:ext cx="548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爸爸妈妈给贝贝存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万元教育存款，存期为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，年利率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40%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到期一次支取，支取时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义务教育的学生身份证明，可以免征储蓄存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息所得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2596320" y="3068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贝贝到期可以拿到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834920" y="3657600"/>
            <a:ext cx="52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00×5.40%×3=32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2388960" y="4267080"/>
            <a:ext cx="474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00+3240=232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贝贝到期可以拿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2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7"/>
          <p:cNvSpPr txBox="1"/>
          <p:nvPr/>
        </p:nvSpPr>
        <p:spPr>
          <a:xfrm>
            <a:off x="2916360" y="189000"/>
            <a:ext cx="2485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1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684360" y="1341360"/>
            <a:ext cx="72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中国各银行给工业发放贷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6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给商业发放贷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6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给建筑业发放贷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给农业发放贷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。这些钱就是我们大家平时的储蓄。据统计，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底，我国城市居民的存款总数已经突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亿，所以，把暂时不用的钱存入银行，对国家、对个人都有好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loud"/>
          <p:cNvSpPr/>
          <p:nvPr/>
        </p:nvSpPr>
        <p:spPr>
          <a:xfrm>
            <a:off x="0" y="0"/>
            <a:ext cx="1981080" cy="132732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2280" y="272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小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979640" y="260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判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0" y="1247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把钱存入银行，只对国家有好处（  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0" y="24382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款的利息按一定的利息税纳税（   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0" y="35733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本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时间（  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0" y="4581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税后利息（  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0" y="569736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税后利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税  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7543800" y="1219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5715000" y="3505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6156360" y="5683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38862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7262640" y="2438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2"/>
          <p:cNvSpPr txBox="1"/>
          <p:nvPr/>
        </p:nvSpPr>
        <p:spPr>
          <a:xfrm>
            <a:off x="1619280" y="0"/>
            <a:ext cx="54738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帮帮忙（给父母储蓄提建议）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395280" y="1341360"/>
            <a:ext cx="842472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假设现在你父母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元，打算存入银行两年，可以有两种储蓄办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存两年期的，年利率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6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种是先存一年期的，年利率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％，第一年到期时再把本金和税后利息取出来合在一起，再存入一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选择哪一种更合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005057"/>
          <p:cNvPicPr/>
          <p:nvPr/>
        </p:nvPicPr>
        <p:blipFill>
          <a:blip r:embed="rId3"/>
          <a:stretch/>
        </p:blipFill>
        <p:spPr>
          <a:xfrm>
            <a:off x="6810480" y="4619520"/>
            <a:ext cx="2333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324000" y="109224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：存两年期所得的税后利息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×4.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2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）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4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存一年期所得的税后利息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×4.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）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.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+196.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4.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）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4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.65+204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1.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4.6&gt;401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选择存两年期更合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Rectangle 2" descr=""/>
          <p:cNvPicPr/>
          <p:nvPr/>
        </p:nvPicPr>
        <p:blipFill>
          <a:blip r:embed="rId1"/>
          <a:stretch/>
        </p:blipFill>
        <p:spPr>
          <a:xfrm>
            <a:off x="468360" y="701640"/>
            <a:ext cx="7772400" cy="1143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8319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我国现行所谓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利息税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”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实际是指</a:t>
            </a:r>
            <a:r>
              <a:rPr b="0" lang="zh-CN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个人所得税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的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利息、股息、红利所得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”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税目，主要指对个人在中国境内储蓄</a:t>
            </a:r>
            <a:r>
              <a:rPr b="0" lang="zh-CN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人民币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、</a:t>
            </a:r>
            <a:r>
              <a:rPr b="0" lang="zh-CN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外币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而取得的</a:t>
            </a:r>
            <a:r>
              <a:rPr b="0" lang="zh-CN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利息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所得征收的个人所得税。对储蓄存款利息所得征收、停征或减免个人所得税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(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利息税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)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对经济具有一定的调节功能。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1999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年的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《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税法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》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中规定利息税税率为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20%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2007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年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8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月税率由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20%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降至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5%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2008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年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10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月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9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日起暂免征收利息税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WordArt 4"/>
          <p:cNvSpPr txBox="1"/>
          <p:nvPr/>
        </p:nvSpPr>
        <p:spPr>
          <a:xfrm>
            <a:off x="3276720" y="189000"/>
            <a:ext cx="26654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知道吗？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如果你购买的是国库卷和建设债券不仅仅可以用来支持国家的发展，而且不要纳税，希望同学们今后多支持国家的建设和发展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WordArt 3"/>
          <p:cNvSpPr txBox="1"/>
          <p:nvPr/>
        </p:nvSpPr>
        <p:spPr>
          <a:xfrm>
            <a:off x="3132000" y="18900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知道吗？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2700360" y="0"/>
            <a:ext cx="2736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小结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468360" y="25336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利息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=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本金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利率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468360" y="34704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税后利息＝利息－利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税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468360" y="4549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税后利息＝利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－税率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468360" y="1557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本金   利息   利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971640" y="1341360"/>
            <a:ext cx="68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人们常常把暂时不用的钱存入银行存储起来，存储不仅可以支援国家建设，也使得个人钱财更安全和有计划，还可以增加一些收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6"/>
          <p:cNvSpPr/>
          <p:nvPr/>
        </p:nvSpPr>
        <p:spPr>
          <a:xfrm>
            <a:off x="2484360" y="-777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准备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2452320" y="1557360"/>
            <a:ext cx="38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用自己的话来说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存款方式有哪几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本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利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利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利息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6"/>
          <p:cNvSpPr/>
          <p:nvPr/>
        </p:nvSpPr>
        <p:spPr>
          <a:xfrm>
            <a:off x="954360" y="2389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彩云"/>
              </a:rPr>
              <a:t>存款方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059280" y="1989000"/>
            <a:ext cx="287280" cy="19130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9680 h 1913040"/>
              <a:gd name="textAreaBottom" fmla="*/ 1863360 h 191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WordArt 8"/>
          <p:cNvSpPr txBox="1"/>
          <p:nvPr/>
        </p:nvSpPr>
        <p:spPr>
          <a:xfrm>
            <a:off x="3562200" y="1628640"/>
            <a:ext cx="1514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活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  <p:sp>
        <p:nvSpPr>
          <p:cNvPr id="391" name="WordArt 9"/>
          <p:cNvSpPr txBox="1"/>
          <p:nvPr/>
        </p:nvSpPr>
        <p:spPr>
          <a:xfrm>
            <a:off x="3564000" y="350208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定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  <p:sp>
        <p:nvSpPr>
          <p:cNvPr id="392" name="WordArt 10"/>
          <p:cNvSpPr txBox="1"/>
          <p:nvPr/>
        </p:nvSpPr>
        <p:spPr>
          <a:xfrm>
            <a:off x="5581800" y="3068640"/>
            <a:ext cx="23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零存整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5364000" y="3429000"/>
            <a:ext cx="144720" cy="1008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WordArt 12"/>
          <p:cNvSpPr txBox="1"/>
          <p:nvPr/>
        </p:nvSpPr>
        <p:spPr>
          <a:xfrm>
            <a:off x="5654520" y="4005360"/>
            <a:ext cx="230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整存整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484360" y="-777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准备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503280" y="1197000"/>
            <a:ext cx="864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率是由银行规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有按年规定的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，叫年利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有按月规定的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，叫月利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率可根据存款时间的长短，和存款的方式不同而不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484360" y="-777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准备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1809000" y="12636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存入银行的钱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本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971640" y="2128680"/>
            <a:ext cx="95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取款时银行多支付的钱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利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971640" y="3063960"/>
            <a:ext cx="91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利息与本金的比值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利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643040" y="39290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利息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2629080" y="39290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本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利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1643040" y="39290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利息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2629080" y="39290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本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利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>
            <a:off x="2484360" y="-777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准备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6"/>
          <p:cNvSpPr txBox="1"/>
          <p:nvPr/>
        </p:nvSpPr>
        <p:spPr>
          <a:xfrm>
            <a:off x="3132000" y="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考一考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07" name="Picture 9" descr="gghb001"/>
          <p:cNvPicPr/>
          <p:nvPr/>
        </p:nvPicPr>
        <p:blipFill>
          <a:blip r:embed="rId1"/>
          <a:stretch/>
        </p:blipFill>
        <p:spPr>
          <a:xfrm>
            <a:off x="4789440" y="3168720"/>
            <a:ext cx="2735280" cy="1347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0"/>
          <p:cNvSpPr/>
          <p:nvPr/>
        </p:nvSpPr>
        <p:spPr>
          <a:xfrm>
            <a:off x="3121560" y="459576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存入银行的钱叫做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仿宋_GB2312"/>
              </a:rPr>
              <a:t>本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324000" y="915840"/>
            <a:ext cx="84978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小强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0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日把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钱存入银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整存整取一年。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日，小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仅可以取回存入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，还可以得到银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多付给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.8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，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1.8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555480" y="4576680"/>
            <a:ext cx="122112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493560" y="5380200"/>
            <a:ext cx="134316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1.8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3369960" y="538020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取款时银行多付的钱叫做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仿宋_GB2312"/>
              </a:rPr>
              <a:t>利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5" descr=""/>
          <p:cNvPicPr/>
          <p:nvPr/>
        </p:nvPicPr>
        <p:blipFill>
          <a:blip r:embed="rId2"/>
          <a:stretch/>
        </p:blipFill>
        <p:spPr>
          <a:xfrm>
            <a:off x="2843280" y="3267000"/>
            <a:ext cx="1944720" cy="962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6" descr="tgjh"/>
          <p:cNvPicPr/>
          <p:nvPr/>
        </p:nvPicPr>
        <p:blipFill>
          <a:blip r:embed="rId3"/>
          <a:stretch/>
        </p:blipFill>
        <p:spPr>
          <a:xfrm>
            <a:off x="2722680" y="3652920"/>
            <a:ext cx="769680" cy="8571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7" descr="club29 拷贝"/>
          <p:cNvPicPr/>
          <p:nvPr/>
        </p:nvPicPr>
        <p:blipFill>
          <a:blip r:embed="rId4"/>
          <a:stretch/>
        </p:blipFill>
        <p:spPr>
          <a:xfrm>
            <a:off x="2268360" y="3652920"/>
            <a:ext cx="1835280" cy="1111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8" descr="club29 拷贝"/>
          <p:cNvPicPr/>
          <p:nvPr/>
        </p:nvPicPr>
        <p:blipFill>
          <a:blip r:embed="rId5"/>
          <a:stretch/>
        </p:blipFill>
        <p:spPr>
          <a:xfrm>
            <a:off x="2700360" y="3652920"/>
            <a:ext cx="1835280" cy="1111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9" descr="club29 拷贝"/>
          <p:cNvPicPr/>
          <p:nvPr/>
        </p:nvPicPr>
        <p:blipFill>
          <a:blip r:embed="rId6"/>
          <a:stretch/>
        </p:blipFill>
        <p:spPr>
          <a:xfrm>
            <a:off x="3097080" y="3652920"/>
            <a:ext cx="1835280" cy="11113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20"/>
          <p:cNvSpPr/>
          <p:nvPr/>
        </p:nvSpPr>
        <p:spPr>
          <a:xfrm>
            <a:off x="3277800" y="6100920"/>
            <a:ext cx="36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利息与本金的比值叫做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仿宋_GB2312"/>
              </a:rPr>
              <a:t>利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134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13 -0.525 L 0.02691 0.02199 E">
                                      <p:cBhvr>
                                        <p:cTn id="151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04 -0.43148 L 0.02622 -0.00208 E">
                                      <p:cBhvr>
                                        <p:cTn id="17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123456"/>
          <p:cNvPicPr/>
          <p:nvPr/>
        </p:nvPicPr>
        <p:blipFill>
          <a:blip r:embed="rId1"/>
          <a:stretch/>
        </p:blipFill>
        <p:spPr>
          <a:xfrm>
            <a:off x="250920" y="1197000"/>
            <a:ext cx="8748720" cy="4548240"/>
          </a:xfrm>
          <a:prstGeom prst="rect">
            <a:avLst/>
          </a:prstGeom>
          <a:ln w="0">
            <a:noFill/>
          </a:ln>
        </p:spPr>
      </p:pic>
      <p:sp>
        <p:nvSpPr>
          <p:cNvPr id="420" name="WordArt 6"/>
          <p:cNvSpPr txBox="1"/>
          <p:nvPr/>
        </p:nvSpPr>
        <p:spPr>
          <a:xfrm>
            <a:off x="2771640" y="0"/>
            <a:ext cx="32403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认一认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79280" y="1484280"/>
          <a:ext cx="8713800" cy="2179800"/>
        </p:xfrm>
        <a:graphic>
          <a:graphicData uri="http://schemas.openxmlformats.org/drawingml/2006/table">
            <a:tbl>
              <a:tblPr/>
              <a:tblGrid>
                <a:gridCol w="1106640"/>
                <a:gridCol w="1508040"/>
                <a:gridCol w="541440"/>
                <a:gridCol w="909360"/>
                <a:gridCol w="1235160"/>
                <a:gridCol w="1233360"/>
                <a:gridCol w="1090800"/>
                <a:gridCol w="1089000"/>
              </a:tblGrid>
              <a:tr h="170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存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金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小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支取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存标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</a:tr>
              <a:tr h="102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3/06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0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3/06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4/06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凭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凭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动   转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</a:tr>
            </a:tbl>
          </a:graphicData>
        </a:graphic>
      </p:graphicFrame>
      <p:sp>
        <p:nvSpPr>
          <p:cNvPr id="422" name="Rectangle 36"/>
          <p:cNvSpPr/>
          <p:nvPr/>
        </p:nvSpPr>
        <p:spPr>
          <a:xfrm>
            <a:off x="1497600" y="37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本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7"/>
          <p:cNvSpPr/>
          <p:nvPr/>
        </p:nvSpPr>
        <p:spPr>
          <a:xfrm>
            <a:off x="3442320" y="3714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利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1835280" y="3645000"/>
            <a:ext cx="144360" cy="210960"/>
          </a:xfrm>
          <a:prstGeom prst="upArrow">
            <a:avLst>
              <a:gd name="adj1" fmla="val 50000"/>
              <a:gd name="adj2" fmla="val 3652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3708360" y="3645000"/>
            <a:ext cx="142920" cy="215640"/>
          </a:xfrm>
          <a:prstGeom prst="upArrow">
            <a:avLst>
              <a:gd name="adj1" fmla="val 50000"/>
              <a:gd name="adj2" fmla="val 37706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0"/>
          <p:cNvSpPr/>
          <p:nvPr/>
        </p:nvSpPr>
        <p:spPr>
          <a:xfrm>
            <a:off x="468360" y="538560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家规定，存款的利息要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税率纳税。个人实际得到银行多付的钱叫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税后利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1"/>
          <p:cNvSpPr/>
          <p:nvPr/>
        </p:nvSpPr>
        <p:spPr>
          <a:xfrm>
            <a:off x="2307240" y="4457880"/>
            <a:ext cx="438660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利息＝本金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华文新魏"/>
              </a:rPr>
              <a:t>×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利率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华文新魏"/>
              </a:rPr>
              <a:t>×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0:00:16Z</dcterms:created>
  <dc:creator>china</dc:creator>
  <dc:description/>
  <dc:language>en-US</dc:language>
  <cp:lastModifiedBy>Administrator</cp:lastModifiedBy>
  <dcterms:modified xsi:type="dcterms:W3CDTF">2016-12-27T03:44:3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